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AA4-F3D8-4935-B323-262F64E0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C39-DCE8-4986-BF50-915D7AC4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6C2-C18F-4CCC-BEB6-C12AECB0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162-4E89-4E7D-92CC-484069C0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AA9C-5C54-408B-8731-B9D3B7CA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4D41-E0AC-4D9A-A8E9-1E764700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DEB9-768B-4F61-8F9C-640F0156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76F6-7BF4-4197-811E-534F20F1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3965-F620-480C-A1D6-3A47D328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3C63-CCE6-4E9D-918E-DE123065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0493-4236-461C-912E-D764A5F9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BA1-1541-4015-BF91-8D13795D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9B41-0BD1-4F21-BF65-86FD205E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582B-0E19-4F12-8E41-901C4059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4B74-D290-4AFA-8D84-1845FFAC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560F-A454-4A6D-A816-EA50A69D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3F4D-588F-4947-AF76-D59BD870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C6E-8396-48C3-84B7-9FA9A0D5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67C-7C27-4DC3-9AD2-36480481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0E1-6C83-42D7-BB14-3BD54567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AB4-85A4-495F-A697-BDEC1169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19A-2579-4022-91DC-14074054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6FE-D7CE-4B8C-9E98-091474FE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40B-3589-45A9-BD62-E583F2D8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C054-0579-4F0E-9E5A-958A7345C08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8979-1180-481C-AB41-46E8AF1CEB4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0715-AAE6-4288-BD82-3F4FBE9B164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9382-5942-4E34-8932-73898C1DDD4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Rectangle 4"/>
          <p:cNvSpPr/>
          <p:nvPr/>
        </p:nvSpPr>
        <p:spPr>
          <a:xfrm>
            <a:off x="1285920" y="15001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rite out the Greek alphabet in order and the English equivalents of each let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1160" y="2711520"/>
          <a:ext cx="6786360" cy="642960"/>
        </p:xfrm>
        <a:graphic>
          <a:graphicData uri="http://schemas.openxmlformats.org/drawingml/2006/table">
            <a:tbl>
              <a:tblPr/>
              <a:tblGrid>
                <a:gridCol w="565200"/>
                <a:gridCol w="565200"/>
                <a:gridCol w="564840"/>
                <a:gridCol w="567000"/>
                <a:gridCol w="577800"/>
                <a:gridCol w="552240"/>
                <a:gridCol w="565200"/>
                <a:gridCol w="567000"/>
                <a:gridCol w="564840"/>
                <a:gridCol w="565200"/>
                <a:gridCol w="565200"/>
                <a:gridCol w="5666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β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δ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ζ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λ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μ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176480" y="4356000"/>
          <a:ext cx="6753240" cy="795600"/>
        </p:xfrm>
        <a:graphic>
          <a:graphicData uri="http://schemas.openxmlformats.org/drawingml/2006/table">
            <a:tbl>
              <a:tblPr/>
              <a:tblGrid>
                <a:gridCol w="561960"/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</a:tblGrid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π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χ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ψ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181160" y="3357720"/>
          <a:ext cx="6786360" cy="642960"/>
        </p:xfrm>
        <a:graphic>
          <a:graphicData uri="http://schemas.openxmlformats.org/drawingml/2006/table">
            <a:tbl>
              <a:tblPr/>
              <a:tblGrid>
                <a:gridCol w="565200"/>
                <a:gridCol w="565200"/>
                <a:gridCol w="564840"/>
                <a:gridCol w="567000"/>
                <a:gridCol w="577800"/>
                <a:gridCol w="552240"/>
                <a:gridCol w="565200"/>
                <a:gridCol w="567000"/>
                <a:gridCol w="564840"/>
                <a:gridCol w="565200"/>
                <a:gridCol w="565200"/>
                <a:gridCol w="5666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ē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176480" y="5143680"/>
          <a:ext cx="6753240" cy="914400"/>
        </p:xfrm>
        <a:graphic>
          <a:graphicData uri="http://schemas.openxmlformats.org/drawingml/2006/table">
            <a:tbl>
              <a:tblPr/>
              <a:tblGrid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  <a:gridCol w="561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ō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Box 11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00C776B1-9F8C-496E-8D1E-2495D24AEEB4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Rectangle 4"/>
          <p:cNvSpPr/>
          <p:nvPr/>
        </p:nvSpPr>
        <p:spPr>
          <a:xfrm>
            <a:off x="357120" y="14288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Write out the English alphabet and give the Greek (small) letter equivalent to each one as far as possible (ignore q, v and w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85920" y="3273480"/>
          <a:ext cx="6095880" cy="5032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285920" y="3821040"/>
          <a:ext cx="6095880" cy="5032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β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δ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‘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λ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μ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92400" y="4670280"/>
          <a:ext cx="6095880" cy="503280"/>
        </p:xfrm>
        <a:graphic>
          <a:graphicData uri="http://schemas.openxmlformats.org/drawingml/2006/table">
            <a:tbl>
              <a:tblPr/>
              <a:tblGrid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297080" y="5238720"/>
          <a:ext cx="6095880" cy="503280"/>
        </p:xfrm>
        <a:graphic>
          <a:graphicData uri="http://schemas.openxmlformats.org/drawingml/2006/table">
            <a:tbl>
              <a:tblPr/>
              <a:tblGrid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π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τ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ζ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Box 9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F682A491-49A4-4C81-8A3C-FCD599BC1D2B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760320" y="1249200"/>
            <a:ext cx="770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rite the sound of the following Greek words in English lett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TextBox 6"/>
          <p:cNvSpPr/>
          <p:nvPr/>
        </p:nvSpPr>
        <p:spPr>
          <a:xfrm>
            <a:off x="1262160" y="2079720"/>
            <a:ext cx="263988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πτισμ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ρον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οσμ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γ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ικρ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υστηριον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βολ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λυτικ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αββατο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3902040" y="2141640"/>
            <a:ext cx="3516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baptisma-bapt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914640" y="2627280"/>
            <a:ext cx="282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thronos- thro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14640" y="3090960"/>
            <a:ext cx="4430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kosmos- cosmos, worl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3902040" y="3554280"/>
            <a:ext cx="3735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megas- gre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3902040" y="4043520"/>
            <a:ext cx="282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mikros- sma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3902040" y="4506840"/>
            <a:ext cx="5214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mustērion </a:t>
            </a:r>
            <a:r>
              <a:rPr b="0" i="1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 mysterion– myste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917160" y="5010120"/>
            <a:ext cx="3039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parabolē– parabl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3909600" y="5499000"/>
            <a:ext cx="55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paralutikos </a:t>
            </a:r>
            <a:r>
              <a:rPr b="0" i="1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 paralytikos–paralytic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894120" y="5996160"/>
            <a:ext cx="510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sabbaton- sabbath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56E0475A-3BBE-4BCA-BAE8-143977A84B2A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77760" y="1158840"/>
            <a:ext cx="913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he following are real Greek words written in English letters. Write them in Greek (small) letters, and have a guess at their mean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446120" y="2230560"/>
            <a:ext cx="2095560" cy="42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blasphēmē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kardi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logiko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mētē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atē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neumatiko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phētē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y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hōnē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-193680" y="193680"/>
            <a:ext cx="8477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TextBox 8"/>
          <p:cNvSpPr/>
          <p:nvPr/>
        </p:nvSpPr>
        <p:spPr>
          <a:xfrm>
            <a:off x="4199040" y="213840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βλασφημη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blasphem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4199040" y="260208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k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αρδια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he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4211640" y="3081240"/>
            <a:ext cx="397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λογικος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rational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spiritu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4199040" y="3541680"/>
            <a:ext cx="399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μητηρ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m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4211640" y="4030560"/>
            <a:ext cx="440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ατηρ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fa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4211640" y="4510080"/>
            <a:ext cx="490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νευματικος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spiritu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4211640" y="4989600"/>
            <a:ext cx="340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ροφητης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ph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6"/>
          <p:cNvSpPr/>
          <p:nvPr/>
        </p:nvSpPr>
        <p:spPr>
          <a:xfrm>
            <a:off x="4211640" y="5460840"/>
            <a:ext cx="292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υρ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f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4199040" y="5927760"/>
            <a:ext cx="324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φωνη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vo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92041A17-3E28-476F-B3E6-AF1B752FA059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Box 6"/>
          <p:cNvSpPr/>
          <p:nvPr/>
        </p:nvSpPr>
        <p:spPr>
          <a:xfrm>
            <a:off x="1906560" y="166680"/>
            <a:ext cx="4660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2 BREATHING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927000" y="1327320"/>
            <a:ext cx="734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 which of these Greek words is there a error in the breat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227320" y="1919160"/>
            <a:ext cx="230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χ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ἐ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4405320" y="2254320"/>
            <a:ext cx="306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           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eft Arrow 13"/>
          <p:cNvSpPr/>
          <p:nvPr/>
        </p:nvSpPr>
        <p:spPr>
          <a:xfrm>
            <a:off x="4133880" y="2325600"/>
            <a:ext cx="682560" cy="366840"/>
          </a:xfrm>
          <a:prstGeom prst="leftArrow">
            <a:avLst>
              <a:gd name="adj1" fmla="val 50000"/>
              <a:gd name="adj2" fmla="val 4998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eft Arrow 16"/>
          <p:cNvSpPr/>
          <p:nvPr/>
        </p:nvSpPr>
        <p:spPr>
          <a:xfrm>
            <a:off x="4165560" y="4791240"/>
            <a:ext cx="682560" cy="366480"/>
          </a:xfrm>
          <a:prstGeom prst="leftArrow">
            <a:avLst>
              <a:gd name="adj1" fmla="val 50000"/>
              <a:gd name="adj2" fmla="val 5003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5640480" y="4700520"/>
            <a:ext cx="1558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eft Arrow 18"/>
          <p:cNvSpPr/>
          <p:nvPr/>
        </p:nvSpPr>
        <p:spPr>
          <a:xfrm>
            <a:off x="4133880" y="3147840"/>
            <a:ext cx="682560" cy="366840"/>
          </a:xfrm>
          <a:prstGeom prst="leftArrow">
            <a:avLst>
              <a:gd name="adj1" fmla="val 50000"/>
              <a:gd name="adj2" fmla="val 4998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5614920" y="3070080"/>
            <a:ext cx="1559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9E444620-8538-494F-8492-AC1FB4B3607E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309600" y="5808600"/>
            <a:ext cx="86281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* Note: When a Greek word containing the diphth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Arial"/>
              </a:rPr>
              <a:t>αι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Arial"/>
              </a:rPr>
              <a:t>’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is transliterated into English the 'ai' is normally represented by 'ae'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TextBox 4"/>
          <p:cNvSpPr/>
          <p:nvPr/>
        </p:nvSpPr>
        <p:spPr>
          <a:xfrm>
            <a:off x="2022480" y="166680"/>
            <a:ext cx="4829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3 CAPITAL LETTER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751040" y="1712880"/>
            <a:ext cx="231948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υλ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ι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βραα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‘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Ιωσηφ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ιμω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ρῳδη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ερουσαλη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σα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1276200"/>
            <a:ext cx="51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rite these names in English lett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854600" y="1763640"/>
            <a:ext cx="24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Paulos (Paul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4854600" y="2254320"/>
            <a:ext cx="24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Maria (Mar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4854600" y="2730600"/>
            <a:ext cx="319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Abraam (Abraha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906800" y="3219480"/>
            <a:ext cx="19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Josep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4881600" y="3695760"/>
            <a:ext cx="243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Sim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4869000" y="4159080"/>
            <a:ext cx="3176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Heroides (Hero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919760" y="4667400"/>
            <a:ext cx="227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Jerusal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5"/>
          <p:cNvSpPr/>
          <p:nvPr/>
        </p:nvSpPr>
        <p:spPr>
          <a:xfrm>
            <a:off x="4894200" y="5149800"/>
            <a:ext cx="2355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Caesar*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7A1D49B7-F8DB-4359-A4E7-281E6744AF7D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Box 3"/>
          <p:cNvSpPr/>
          <p:nvPr/>
        </p:nvSpPr>
        <p:spPr>
          <a:xfrm>
            <a:off x="385920" y="219240"/>
            <a:ext cx="937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4 DIPHTHONGS AND IOTA SUBSCRIP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903600" y="1327320"/>
            <a:ext cx="49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rite these names in Greek letters</a:t>
            </a:r>
            <a:r>
              <a:rPr b="0" lang="en-GB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874800" y="1906560"/>
            <a:ext cx="374796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Barnabas (Barnaba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Petros  (Pet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Philippos (Philip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Pilatos (Pilat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Timotheos (Timoth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Joudaea (Jude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Satanas (Sata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Pharisaios (Pharise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5357880" y="204804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ρναβ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5010120" y="3052800"/>
            <a:ext cx="24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5319720" y="370692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λατ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5332320" y="31464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ιππ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5345280" y="25956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τρ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5322960" y="42894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μοθε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5322960" y="484668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ι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5322960" y="5394240"/>
            <a:ext cx="235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αταν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5305320" y="5924520"/>
            <a:ext cx="235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αρισαι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84B43EB1-3019-438E-A495-2CA3F22CA0D9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360360" y="1403280"/>
            <a:ext cx="84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words has a smooth breat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1868400" y="231840"/>
            <a:ext cx="6678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5 ACCENT AND STR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6" name="TextBox 5"/>
          <p:cNvSpPr/>
          <p:nvPr/>
        </p:nvSpPr>
        <p:spPr>
          <a:xfrm>
            <a:off x="2216160" y="2189160"/>
            <a:ext cx="290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άλλ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ἄ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υρίσκ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ἅγι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</a:t>
            </a:r>
            <a:r>
              <a:rPr b="0" lang="en-GB" sz="2700" spc="-1" strike="noStrike">
                <a:solidFill>
                  <a:srgbClr val="000000"/>
                </a:solidFill>
                <a:latin typeface="Greek"/>
              </a:rPr>
              <a:t>î</a:t>
            </a:r>
            <a:r>
              <a:rPr b="0" lang="el-GR" sz="2700" spc="-1" strike="noStrike">
                <a:solidFill>
                  <a:srgbClr val="000000"/>
                </a:solidFill>
                <a:latin typeface="Greek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eft Arrow 7"/>
          <p:cNvSpPr/>
          <p:nvPr/>
        </p:nvSpPr>
        <p:spPr>
          <a:xfrm>
            <a:off x="4286160" y="3395520"/>
            <a:ext cx="682560" cy="366840"/>
          </a:xfrm>
          <a:prstGeom prst="leftArrow">
            <a:avLst>
              <a:gd name="adj1" fmla="val 50000"/>
              <a:gd name="adj2" fmla="val 4998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eft Arrow 8"/>
          <p:cNvSpPr/>
          <p:nvPr/>
        </p:nvSpPr>
        <p:spPr>
          <a:xfrm>
            <a:off x="4305240" y="5869080"/>
            <a:ext cx="682560" cy="366480"/>
          </a:xfrm>
          <a:prstGeom prst="leftArrow">
            <a:avLst>
              <a:gd name="adj1" fmla="val 50000"/>
              <a:gd name="adj2" fmla="val 5003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52D218E9-E089-433C-A462-F195423FF074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986760" y="151920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ich are question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2679840" y="231840"/>
            <a:ext cx="6680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6 PUNCTUATION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4" name="TextBox 5"/>
          <p:cNvSpPr/>
          <p:nvPr/>
        </p:nvSpPr>
        <p:spPr>
          <a:xfrm>
            <a:off x="2292480" y="2125800"/>
            <a:ext cx="293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ει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χω∙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ουσι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λλ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ε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eft Arrow 6"/>
          <p:cNvSpPr/>
          <p:nvPr/>
        </p:nvSpPr>
        <p:spPr>
          <a:xfrm>
            <a:off x="4630680" y="2533680"/>
            <a:ext cx="681120" cy="366840"/>
          </a:xfrm>
          <a:prstGeom prst="leftArrow">
            <a:avLst>
              <a:gd name="adj1" fmla="val 50000"/>
              <a:gd name="adj2" fmla="val 4988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eft Arrow 7"/>
          <p:cNvSpPr/>
          <p:nvPr/>
        </p:nvSpPr>
        <p:spPr>
          <a:xfrm>
            <a:off x="4616280" y="5016600"/>
            <a:ext cx="682920" cy="366480"/>
          </a:xfrm>
          <a:prstGeom prst="leftArrow">
            <a:avLst>
              <a:gd name="adj1" fmla="val 50000"/>
              <a:gd name="adj2" fmla="val 5006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A573A07C-DAFD-48B5-9E27-C89FA1AD302F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9:51:08Z</dcterms:created>
  <dc:creator>Sarah</dc:creator>
  <dc:description/>
  <dc:language>en-US</dc:language>
  <cp:lastModifiedBy>Sarah</cp:lastModifiedBy>
  <dcterms:modified xsi:type="dcterms:W3CDTF">2009-07-11T17:00:51Z</dcterms:modified>
  <cp:revision>72</cp:revision>
  <dc:subject/>
  <dc:title>Slide 1</dc:title>
</cp:coreProperties>
</file>